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573-891F-4DD2-A7E6-9FF37C6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537-6841-4434-89B8-109B1D50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8B0-90DA-4A88-AC1A-16FEBC44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AC9-BF05-492D-A19D-1C14298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D0E1-E20F-4F61-93DF-D13DA398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12F0F-6094-437C-A728-2EF595F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1573-001B-4698-BA8C-B306CD0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C185-F146-41E4-94F7-6B16F909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25E5-C0CB-4795-960A-A9B5B3D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0F5F-BF81-4565-95E4-5A71D739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34CE-0932-416B-A32F-BE9D3DB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E9B-B998-4B98-B139-ABB1101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508B-A157-4372-9ED4-97E4F64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FF0C-75C8-4D30-B49C-E4A14A0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C578E-DBC5-402D-8E10-72518E2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51406-20F5-49BB-83D5-E75FEA02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EB28-7C06-4350-9E6F-FFCDA94B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4F5-804D-4013-B9AF-8949B98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14B-B950-489C-B8C5-E6A3D90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B6F-A39B-44BB-B07A-789C59E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4D1-0211-47E8-A348-84D0D0C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4A3-1F9B-4FA5-9801-14C2B8C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85F-F02F-4864-B4EA-0A458D23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F91-A125-4243-83E9-CB1C8DD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DF8-1A50-41F5-87B6-19B85285B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4E1-ABC4-4D77-9ACD-8F1E33867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Projec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 Urban Acad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Schack, Teresa Stonerock, Mary Tinsley, Carolyn Cutler Osbo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r. Schack demonstrates the dulcim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43040" y="1909800"/>
            <a:ext cx="47898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and their dulcim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43040" y="1909800"/>
            <a:ext cx="4057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paint their quilt bloc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07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ry &amp; students sew quilt to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523880" y="1600200"/>
            <a:ext cx="63072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finished qui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00200" y="2057400"/>
            <a:ext cx="55022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d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038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urpose of our project was to demonstrate to pre-service teachers how to teach about a culture using the arts (music, visual arts, dance, and dram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purpose of our project was to introduce students at Beck to Appalachia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ck Urban Acade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k is part of the Columbus Public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a high rate of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t is located on the south side of Columbus, Beck serves Appalachian children and their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mponents of the project:  Music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ngs as cultural 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d instruments—fiddle, banjo, guitar, dulci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live bluegrass band for the 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simple working dulc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simple block q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rew pictures to represent their thinking about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ecorated their dulc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rama and D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reader’s theater version of a Jack 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process drama to explore alternate endings of the Jack 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a square dance as the culminating event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king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447920"/>
            <a:ext cx="65818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l lets students play his banj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00200" y="1600200"/>
            <a:ext cx="6180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 of the square dance b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828800"/>
            <a:ext cx="57672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0:39:16Z</dcterms:created>
  <dc:creator>Capital University</dc:creator>
  <dc:description/>
  <dc:language>en-US</dc:language>
  <cp:lastModifiedBy>Capital University</cp:lastModifiedBy>
  <dcterms:modified xsi:type="dcterms:W3CDTF">2005-06-28T01:02:20Z</dcterms:modified>
  <cp:revision>7</cp:revision>
  <dc:subject/>
  <dc:title>The Appalachian Project</dc:title>
</cp:coreProperties>
</file>